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.gif" ContentType="image/gif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F00-5DCA-4560-8229-9DDCAA9F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1A2-9622-42AB-9B1B-E66ECA9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6E4-4188-4F81-8BF0-C1C060AD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FD9-9253-41E8-A1E2-D7030CA1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BE66-A616-4403-B2F4-58F6C78D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4CA5-EFE0-4E68-8E06-953D0E2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4FD5-11CF-4412-9177-D7535223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FD94-F8B5-4B0D-8318-42B0E2C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BBB7-7687-46A6-B745-0DCE3720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735E-BBBF-416C-AEE6-F3164F78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AF6-3D20-4EF1-99BE-D2CBF6F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D15-3832-465D-B8F6-BD49AD97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A69D-B9C4-4D0C-B362-B01D109D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F0F-E4CE-4132-9FE5-289AF85D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7D7-A9E2-4D8A-A6FC-6AB236F6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3A1F-5A83-42EB-9260-38E5AA40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0BB4-4BE4-47A0-9AFB-D3EACA1A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80D6-77F9-4498-9C66-ED2D575B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FDE-585E-4B82-BC21-84047DC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CB9-9080-44D8-B4E6-A02471E2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869-B1BA-489F-A908-8B13AA79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7C1-138C-4863-8F26-F01A8128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1B2-5EAF-4D46-861E-5C03E67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351-9736-45C0-B197-1FBEE037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B9B6-F90D-4B0D-AF7E-F7DC97E58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730C-9A9C-4191-B7BC-BD3564CCD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image" Target="../media/image1.gi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slide" Target="slide4.xml"/><Relationship Id="rId9" Type="http://schemas.openxmlformats.org/officeDocument/2006/relationships/image" Target="../media/image5.jpeg"/><Relationship Id="rId10" Type="http://schemas.openxmlformats.org/officeDocument/2006/relationships/slide" Target="slide6.xml"/><Relationship Id="rId11" Type="http://schemas.openxmlformats.org/officeDocument/2006/relationships/slide" Target="slide8.xml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inforest-alliance.org/resources/forest-facts/species-profiles/spider.html" TargetMode="External"/><Relationship Id="rId2" Type="http://schemas.openxmlformats.org/officeDocument/2006/relationships/hyperlink" Target="http://www.rainforest-alliance.org/resources/forest-facts/species-profiles/squirrelmonkey.html" TargetMode="External"/><Relationship Id="rId3" Type="http://schemas.openxmlformats.org/officeDocument/2006/relationships/hyperlink" Target="http://www.rainforest-alliance.org/resources/forest-facts/species-profiles/morpho_butterfly.html" TargetMode="External"/><Relationship Id="rId4" Type="http://schemas.openxmlformats.org/officeDocument/2006/relationships/hyperlink" Target="http://www.rainforest-alliance.org/resources/forest-facts/species-profiles/scarlet-macaw.html" TargetMode="External"/><Relationship Id="rId5" Type="http://schemas.openxmlformats.org/officeDocument/2006/relationships/hyperlink" Target="http://www.rainforest-alliance.org/resources/forest-facts/species-profiles/ruby-throated_hummingbird.html" TargetMode="External"/><Relationship Id="rId6" Type="http://schemas.openxmlformats.org/officeDocument/2006/relationships/hyperlink" Target="http://www.rainforest-alliance.org/resources/forest-facts/species-profiles/howler-monkey.html" TargetMode="External"/><Relationship Id="rId7" Type="http://schemas.openxmlformats.org/officeDocument/2006/relationships/hyperlink" Target="http://www.rainforest-alliance.org/resources/forest-facts/species-profiles/quetzal.html" TargetMode="External"/><Relationship Id="rId8" Type="http://schemas.openxmlformats.org/officeDocument/2006/relationships/hyperlink" Target="http://www.rainforest-alliance.org/resources/forest-facts/species-profiles/jaguar.html" TargetMode="External"/><Relationship Id="rId9" Type="http://schemas.openxmlformats.org/officeDocument/2006/relationships/hyperlink" Target="http://www.rainforest-alliance.org/resources/forest-facts/species-profiles/toucan.html" TargetMode="External"/><Relationship Id="rId10" Type="http://schemas.openxmlformats.org/officeDocument/2006/relationships/hyperlink" Target="http://www.rainforest-alliance.org/resources/forest-facts/species-profiles/sloths.html" TargetMode="External"/><Relationship Id="rId11" Type="http://schemas.openxmlformats.org/officeDocument/2006/relationships/hyperlink" Target="http://www.rainforest-alliance.org/resources/forest-facts/species-profiles/poison-dart-frogs.html" TargetMode="External"/><Relationship Id="rId12" Type="http://schemas.openxmlformats.org/officeDocument/2006/relationships/hyperlink" Target="http://www.rainforest-alliance.org/resources/forest-facts/species-profiles/anteater.html" TargetMode="External"/><Relationship Id="rId13" Type="http://schemas.openxmlformats.org/officeDocument/2006/relationships/hyperlink" Target="http://www.rainforest-alliance.org/resources/forest-facts/species-profiles/red-eyed-tree-frog.html" TargetMode="External"/><Relationship Id="rId14" Type="http://schemas.openxmlformats.org/officeDocument/2006/relationships/slide" Target="slide4.xml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helperclipart.com/clipart/RainForest_dot2dots_easy.pdf" TargetMode="External"/><Relationship Id="rId2" Type="http://schemas.openxmlformats.org/officeDocument/2006/relationships/hyperlink" Target="http://www.nationalgeographic.com/earthpulse/rainforest/index_flash-feature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ainforest Animal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" action="ppaction://hlinksldjump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80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2" action="ppaction://hlinksldjump"/>
              </a:rPr>
              <a:t>T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915240" y="2819520"/>
            <a:ext cx="2228760" cy="151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125100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200400" y="2819520"/>
            <a:ext cx="2022480" cy="178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44288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81480" y="38088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7" action="ppaction://hlinksldjump"/>
              </a:rPr>
              <a:t>Anim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0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8" action="ppaction://hlinksldjump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2209680" y="480060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0" y="3808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0" action="ppaction://hlinksldjump"/>
              </a:rPr>
              <a:t>G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33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53352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33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33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9144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1" action="ppaction://hlinksldjump"/>
              </a:rPr>
              <a:t>Th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60948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9144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Berlin Sans FB Demi"/>
                <a:hlinkClick r:id="rId12" action="ppaction://hlinksldjump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400800" y="10666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914400" y="1066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228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28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228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28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28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1295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1371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forests are 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e, warm, and w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homes for many plants and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lant and animal has its own special job to do in the life of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81160" cy="28256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696080" y="57150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Jo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about Rainforest Animals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ok like, where they live, and what they 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a Kidspiration web on an animal that you pi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at least 3 sentences describing your animal.  Print out your work and draw a picture of your an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2006640" cy="1406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438280" y="6094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69608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c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ngs to 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Learn about the animals that live in the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ainfor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licking on them and re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rint out the Kidspiration Web 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forget your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Pick your favorite </a:t>
            </a: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Rainforest Ani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fill out your web about your 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Use your web to complete your descriptive writing by typing at least 3 sentences about your animal – Print it out and at the bottom of the page draw your animal in the Rain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352680" y="685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562720" y="2286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3808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8380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838080" y="42670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96080" y="57913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8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9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Read about the Rainforest Anim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pide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Squirrel M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Morpho Butterfl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Mac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ummingbir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Howler Mon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Quetza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Jagu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Touca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Three-Toed Sl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Poison Dart Fro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nte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Red Eyed Tree Fr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14" action="ppaction://hlinksldjump"/>
          </p:cNvPr>
          <p:cNvSpPr/>
          <p:nvPr/>
        </p:nvSpPr>
        <p:spPr>
          <a:xfrm>
            <a:off x="8001000" y="5791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5486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6629400" y="1066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>
            <a:off x="6094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>
            <a:off x="6094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6094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>
            <a:off x="6094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>
            <a:off x="6094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>
            <a:off x="60948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>
            <a:off x="6094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3"/>
          <a:stretch/>
        </p:blipFill>
        <p:spPr>
          <a:xfrm>
            <a:off x="50292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4"/>
          <a:stretch/>
        </p:blipFill>
        <p:spPr>
          <a:xfrm>
            <a:off x="60199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5"/>
          <a:stretch/>
        </p:blipFill>
        <p:spPr>
          <a:xfrm>
            <a:off x="5029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6"/>
          <a:stretch/>
        </p:blipFill>
        <p:spPr>
          <a:xfrm>
            <a:off x="59436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7"/>
          <a:stretch/>
        </p:blipFill>
        <p:spPr>
          <a:xfrm>
            <a:off x="51055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8"/>
          <a:stretch/>
        </p:blipFill>
        <p:spPr>
          <a:xfrm>
            <a:off x="601992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me to learn how to get an I!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int me out and start checking your work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10_orangutan"/>
          <p:cNvPicPr/>
          <p:nvPr/>
        </p:nvPicPr>
        <p:blipFill>
          <a:blip r:embed="rId2"/>
          <a:stretch/>
        </p:blipFill>
        <p:spPr>
          <a:xfrm>
            <a:off x="380880" y="228600"/>
            <a:ext cx="1447920" cy="13032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696080" y="57150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800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eat Job!!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You are now a Rainforest Animal Expert!  Now you can present the information you have learned about your animal to the clas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527120" cy="14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nimals of the Rainforest"/>
          <p:cNvPicPr/>
          <p:nvPr/>
        </p:nvPicPr>
        <p:blipFill>
          <a:blip r:embed="rId3"/>
          <a:stretch/>
        </p:blipFill>
        <p:spPr>
          <a:xfrm>
            <a:off x="762120" y="1828800"/>
            <a:ext cx="319860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96080" y="5638680"/>
            <a:ext cx="1067040" cy="838440"/>
          </a:xfrm>
          <a:custGeom>
            <a:avLst/>
            <a:gdLst>
              <a:gd name="textAreaLeft" fmla="*/ 54360 w 1067040"/>
              <a:gd name="textAreaRight" fmla="*/ 1012680 w 1067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87" h="21600">
                <a:moveTo>
                  <a:pt x="0" y="0"/>
                </a:moveTo>
                <a:lnTo>
                  <a:pt x="27487" y="0"/>
                </a:lnTo>
                <a:lnTo>
                  <a:pt x="27487" y="21600"/>
                </a:lnTo>
                <a:lnTo>
                  <a:pt x="0" y="21600"/>
                </a:lnTo>
                <a:close/>
              </a:path>
              <a:path fill="lightenLess" w="27487" h="21600">
                <a:moveTo>
                  <a:pt x="0" y="0"/>
                </a:moveTo>
                <a:lnTo>
                  <a:pt x="27487" y="0"/>
                </a:lnTo>
                <a:lnTo>
                  <a:pt x="26087" y="1400"/>
                </a:lnTo>
                <a:lnTo>
                  <a:pt x="1400" y="1400"/>
                </a:lnTo>
                <a:close/>
              </a:path>
              <a:path fill="darken" w="27487" h="21600">
                <a:moveTo>
                  <a:pt x="27487" y="0"/>
                </a:moveTo>
                <a:lnTo>
                  <a:pt x="27487" y="21600"/>
                </a:lnTo>
                <a:lnTo>
                  <a:pt x="26087" y="20200"/>
                </a:lnTo>
                <a:lnTo>
                  <a:pt x="26087" y="1400"/>
                </a:lnTo>
                <a:close/>
              </a:path>
              <a:path fill="darkenLess" w="27487" h="21600">
                <a:moveTo>
                  <a:pt x="27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7" y="20200"/>
                </a:lnTo>
                <a:close/>
              </a:path>
              <a:path fill="lighten" w="27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7" h="21600">
                <a:moveTo>
                  <a:pt x="6737" y="3794"/>
                </a:moveTo>
                <a:lnTo>
                  <a:pt x="20750" y="10800"/>
                </a:lnTo>
                <a:lnTo>
                  <a:pt x="67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20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e you finished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a Rainforest game to d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nt 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y on the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Coloring page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Rainforest at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781680" y="609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629400" y="4572000"/>
            <a:ext cx="1981080" cy="178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80880" y="4267080"/>
            <a:ext cx="2590920" cy="235296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3962520" y="55627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15428" y="3837"/>
                </a:moveTo>
                <a:lnTo>
                  <a:pt x="18004" y="6448"/>
                </a:lnTo>
                <a:lnTo>
                  <a:pt x="18004" y="4707"/>
                </a:lnTo>
                <a:lnTo>
                  <a:pt x="19779" y="4707"/>
                </a:lnTo>
                <a:lnTo>
                  <a:pt x="19779" y="8224"/>
                </a:lnTo>
                <a:lnTo>
                  <a:pt x="22390" y="10800"/>
                </a:lnTo>
                <a:lnTo>
                  <a:pt x="20737" y="10800"/>
                </a:lnTo>
                <a:lnTo>
                  <a:pt x="20737" y="17989"/>
                </a:lnTo>
                <a:lnTo>
                  <a:pt x="10118" y="17989"/>
                </a:lnTo>
                <a:lnTo>
                  <a:pt x="10118" y="10800"/>
                </a:lnTo>
                <a:lnTo>
                  <a:pt x="8465" y="10800"/>
                </a:lnTo>
                <a:close/>
              </a:path>
              <a:path fill="darkenLess" w="30855" h="21600">
                <a:moveTo>
                  <a:pt x="18004" y="6448"/>
                </a:moveTo>
                <a:lnTo>
                  <a:pt x="18004" y="4707"/>
                </a:lnTo>
                <a:lnTo>
                  <a:pt x="19779" y="4707"/>
                </a:lnTo>
                <a:lnTo>
                  <a:pt x="19779" y="8224"/>
                </a:lnTo>
                <a:close/>
              </a:path>
              <a:path fill="darkenLess" w="30855" h="21600">
                <a:moveTo>
                  <a:pt x="14505" y="14299"/>
                </a:moveTo>
                <a:lnTo>
                  <a:pt x="16350" y="14299"/>
                </a:lnTo>
                <a:lnTo>
                  <a:pt x="16350" y="17989"/>
                </a:lnTo>
                <a:lnTo>
                  <a:pt x="20737" y="17989"/>
                </a:lnTo>
                <a:lnTo>
                  <a:pt x="20737" y="10800"/>
                </a:lnTo>
                <a:lnTo>
                  <a:pt x="10118" y="10800"/>
                </a:lnTo>
                <a:lnTo>
                  <a:pt x="10118" y="17989"/>
                </a:lnTo>
                <a:lnTo>
                  <a:pt x="1450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3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21:41:55Z</dcterms:created>
  <dc:creator>BCPS</dc:creator>
  <dc:description/>
  <dc:language>en-US</dc:language>
  <cp:lastModifiedBy>BCPS</cp:lastModifiedBy>
  <dcterms:modified xsi:type="dcterms:W3CDTF">2008-02-06T13:54:44Z</dcterms:modified>
  <cp:revision>37</cp:revision>
  <dc:subject/>
  <dc:title>Rainforest Animals</dc:title>
</cp:coreProperties>
</file>